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FA3-7521-4FE9-9738-50B880A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044-7B29-4DA0-BAED-DE99732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A7D-4B3A-4A97-B4F3-DDF1CD6B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E7F-C740-4DAF-82D3-52B46DD1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B06-AC2C-4597-81D3-0C7672B2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AC0-6005-473E-842C-DB34E97B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3D3-2559-4A72-B7C8-DE5EF59A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19F-04BB-4398-AC0B-1BCB495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E3F-B748-4F58-9457-FECD5E5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D7C-3EDA-4A09-9F3B-633415C7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AC1-A8D3-423E-A3C2-F20484D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931-7A8C-47EE-B0B7-D7B4E6D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FFE-B8D2-4F8D-9AF2-588B22995F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66680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γαρ ἀπεστειλεν ὁ θεος τον υἱον εἰς τον κοσμον ἱνα κρινῃ τον κοσμον, ἀλλ’ ἱνα σωθῃ ὁ κοσμος δι’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οκριθεις αὐτῳ ὁ Ἰησους εἰπεν∙ Τί σοι θελεις ποιησ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δε τυφλος εἰπεν αὐτῳ, Ῥαββι, ἱνα ἀναβλε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 ἐν ἐκεινῃ τῃ ἡμερᾳ∙ Διελθωμε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στρατιωτης ἰδων ἀνεῳγμεν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ect Passive Participl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οιγω) τας θυρας της φυλακης, ἠμελλεν ἑαυτον ἀναιρειν μαχαιρᾳ δοκων ὁτι πεφευγασιν οἱ μαθη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ς γαρ ἀν ποιησῃ το θελημα του θεου, οὑτος ἀδελφος μου και ἀδελφη και μητηρ ἐστι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ελθουσα εἰπεν τῃ μητρι αὐτης∙ Τί αἰτησω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δε εἰπεν∙ Την κεφαλην Ἰωαννου του βαπτιζον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14200" y="1071720"/>
            <a:ext cx="89298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ἠλθεν εἰς μαρτυριαν, ἱνα μαρτυρησῃ περι του φωτος, ἱνα παντες πιστευσωσιν δι’ αὐτου. οὐκ ἠν ἐκεινος το φως, ἀλλ’ ἱνα μαρτυρησῃ περι του φω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ι δ’ εἰσιν οἱ παρα την ὁδον∙ ὁπου σπειρεται ὁ λογος, και ὁταν ἀκουσωσιν, εὐθυς ἐρχεται ὁ Σατανας και αἰρει τον λογον τον ἐσπαρμεν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(Perfect Passiv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) εἰς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And having gone out into the fields they preached so that the people would rep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His mercy is for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FangSong"/>
              </a:rPr>
              <a:t>εἰ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 generations and generations to those who fear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According to the writings, there will be signs in the sun and stars, and on the earth suffering and need of the 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And they were bringing children to him so that he might touc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42920" y="166680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ς ἀν ἑν των τοιουτων παιδιων δεξηται ἐπι τῳ ὀνοματι μου, ἐμε δεχεται∙ και ὁς ἀν ἐμε δεχηται, οὐκ ἐμε δεχεται ἀλλα τον ἀποστειλαντα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ἡ μητηρ αὐτου τοις διακονοις∙ Ὅ τι ἀν λεγῃ ὑμιν ποιησα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ε εἰπαν∙ Τί ἐτι ἐχομεν μαρτυριας χρει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ι γαρ ἠκουσαμεν ἀπο του στοματ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στειλεν αὐτον εἰς οἰκον αὐτου λεγων∙ Μη εἰς την κωμην εἰσελθῃ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Ἀγωμεν εἰς τας ἀλλας πολεις και κωμας, ἱνα και ἐκει κηρηξω∙ εἰς τουτο γαρ ἐξ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ιστευων εἰς τον υἱον ἐχει ζωην αἰωνιον∙ ὁ δε ἀρνουμενος τον υἱον οὐκ ὀψε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(irregular Futur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ραω) ζωην, ἀλλ’ ἡ ὀργη του θεου μενει ἐπ’ αὐτ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14200" y="1071720"/>
            <a:ext cx="8929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μεν υἱος του ἀνθρωπου ὑπαγει καθως γεγραπται περι αὐτου, οὐαι δε τῳ ἀνθρωπῳ ἐκεινῳ ὁς ἀν ᾐ ὁ ἐχθρος τῳ υἱῳ του ἀνθρωπ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δε οὐ παρα ἀνθρωπου την μαρτυριαν λαμβανω, ἀλλα ταυτα λεγω ἱνα ὑμεις σωθ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servants of God say ‘Wisdom and honour and power and glory be (omit the verb to be) to the lamb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promises of God and the covenant are salvation for this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leaders of Judea listened to his testimony until the end in order that they might accus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servant asked his masters, ‘What do you wish that I might do for you (pl.)?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14360" y="1550880"/>
            <a:ext cx="82868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28-30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ἶπον οὖν πρὸς αὐτόν, Τί ποιῶμεν ἵνα ἐργαζώμεθα τὰ ἔργα τοῦ θεοῦ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29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κρίθη ὁ Ἰησοῦς καὶ εἶπεν αὐτοῖς, Τοῦτό ἐστιν τὸ ἔργον τοῦ θεοῦ, ἵνα πιστεύητε εἰς ὃν ἀπέστειλεν ἐκεῖνο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ἶπον οὖν αὐτῷ, Τί οὖν ποιεῖς σὺ σημεῖον, ἵνα ἴδωμεν καὶ πιστεύσωμέν σο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ἐργάζ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1:55Z</dcterms:created>
  <dc:creator>Sarah</dc:creator>
  <dc:description/>
  <dc:language>en-US</dc:language>
  <cp:lastModifiedBy>Sarah</cp:lastModifiedBy>
  <dcterms:modified xsi:type="dcterms:W3CDTF">2009-03-02T20:08:34Z</dcterms:modified>
  <cp:revision>13</cp:revision>
  <dc:subject/>
  <dc:title>Slide 1</dc:title>
</cp:coreProperties>
</file>